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876920" y="48006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y A. Baines, WD4A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-Fiel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AT-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omaly provides the position of the satellite along its orbital ellipse at Epo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as an angle where  MA=0 at perigee and MA=180 at Apog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concept as ‘Pha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is a measure of the rate at which Mean Motion is changing due to drag or other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in revolutions/day and is a very smal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atellit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Revolution is the number of times a satellite has orbitted from launch to Epo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tude (Bahn Coordinates) is a measure of how the satellite is oriented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from the satellite to the Earth’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whether the satellite’s antennas are aimed at the center of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cking Program Can Utilize Keplerian Data to Compute the Position and Velocity of a Satellite for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Time Tracking to determine the Satellite’s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aiming for azimuth and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pler Shift Corrections based upon relative Velocity of the Satellite to the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redictions of when a Ground Station will be in view of the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Track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ety of Tracking Program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ety of Platforms are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Int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dore C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Track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PC’s Have a Variety of Programs for Various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-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Track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AT Offers a Number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-95 :  32 Bit NOVA fo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3.1:  WINSAT/N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Trak (V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ktrak 4.0 (C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s 3.0 (C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 Program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Display of Satellite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atellit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Future Predic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/Memory/Harddriv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 Co-Processor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self-contained ‘Black Boxes’ Provide Autonomous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KBOX from TA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 Trak IV from K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evices operate independently of a PC and are capable of Steering Rotors and Adjusting Radios for Doppler 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r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s are Moving Transp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Predict When the Satellite Will be in View of You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Pointing/Doppler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Want to Know When Mutual Pass Will Occur with Anothe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be Able to Describe a Satellite’s Or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Each Satellite is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tal Characteristics Chang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Sourc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“Orbit” is the ‘highway’ on which a satellite travels around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ype of Orbit Determines how the Satellite Can be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r the Orbit, the larger the “Footprint” and the Longer the Orb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s” are the Variables Which Describe a Satellite’s 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s are Developed by NORAD/N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AT Provides Reforma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s are Distributed Worldw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Bulleti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S (DRIG, NASA, AMSAT BBS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ites (AM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e-mail receipt from keps@amsa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is the time at which the snapshot is taken.  Usually described by Year-Julian Date-Fraction of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tion is the angle of the orbital plane with respect to the Equatorial Pl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degrees is an equitorial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egrees is a polar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maximum Northerly and Southerly Latitudes Over Which the Satellite Will Ov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scension of Ascending Node (RAAN) specifies where the satellite crosses the Equator on an Ascending (South-North)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using an Astronomical Coordinate System which does not spin with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 is Where Right Ascension is Defined as Zero (Vernal Equi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gle measured at the center of the Earth, Eastward from the Vernal Equinox to the Ascending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of Perigee is the Angle from the Ascending Node to Perigee in the Direction of Orbital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gee is the point where the satellite is closest to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RGP=0, perigee occurs at the same place as the Ascending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RGP=180, apogee (The point where the satellite is furthest from Earth)  occurs at the same place as the Ascending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ia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entricty is the Orbital 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=0 when the orbit is a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=1 when the orbit is highly ellip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Motion provides a measure of the size of the orbital 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ler’s Third Law provides a relationship between a satellite’s speed and distance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s that are close to the Earth orbit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s that are far away orbit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Motion is an Average Speed over an Orbit and is measured in revolutions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ry A. Baines</dc:creator>
  <dc:description/>
  <dc:language>en-US</dc:language>
  <cp:lastModifiedBy>Barry A. Baines</cp:lastModifiedBy>
  <cp:revision>0</cp:revision>
  <dc:subject/>
  <dc:title>Satellite Tracking</dc:title>
</cp:coreProperties>
</file>